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2FC9-3C88-4258-A84B-BFB97660F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7B8D-26F0-4E70-B52F-0AB5A60F1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AC30-0555-48D3-9B25-F386D023B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0711-D59C-4419-B5B2-B76401697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AB01C-9D27-4FBF-B259-BC5BC3E60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D8261-E898-4EA6-A3F1-7935E9173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43681-65C4-4710-9405-14E7D04F0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5290F-42AA-41D2-B3B4-163BCCEBC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2EC60-8C08-4025-A3D4-6F08503B8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78F92-6D47-404F-8A1B-8AC336E87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DAD79-9F6C-4AF7-9A6E-7DFD06E6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FA5A-4D26-4204-A7D2-33E90B85F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8B7A5-547B-49B6-A488-70D760C0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C9510-2923-4CD4-86BD-613C99B01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4A7DC-70B6-4D51-8E30-8DE7A0FBD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B004D-8F98-495E-BD1B-832E451A2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98747-2D6D-4F6B-8BD7-35ABD7F5A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4BE0-F0DB-45A9-965B-9589A7F04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081F-DDC3-47EA-96A0-030BDDE9D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7F28-3051-4141-980D-85B78E3E0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F693-20DF-42D5-A8B6-364467214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D1FA-F584-4437-AEB6-5137DAB55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9725-DD0F-4E42-9ED3-99F58E8A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A83B-74D6-4650-94F4-295A809C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D8970-34CD-4F3F-99A0-98DC381DB6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60DF-B410-46EA-ACBA-8C87758D12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917080" y="1068480"/>
            <a:ext cx="325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Raskin"/>
              </a:rPr>
              <a:t>Hurrican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96840" y="2316240"/>
            <a:ext cx="65372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skin"/>
              </a:rPr>
              <a:t>These powerful storm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skin"/>
              </a:rPr>
              <a:t>Are created in the Atlant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skin"/>
              </a:rPr>
              <a:t>Ocean.  They turn clockwi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skin"/>
              </a:rPr>
              <a:t>With extremely strong force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skin"/>
              </a:rPr>
              <a:t>Once They come ashore on land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skin"/>
              </a:rPr>
              <a:t>They Can burst through town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skin"/>
              </a:rPr>
              <a:t>and Houses with such force 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ski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Raskin"/>
              </a:rPr>
              <a:t>They can wipe them ou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6476760" cy="42685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7620120" y="228600"/>
            <a:ext cx="63648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2920" y="4648320"/>
            <a:ext cx="842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looding is a major problem caused by hurrican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nce they reach land.  Hurricanes bring huge amou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f rain as they come from the sea onto the land.  Thi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treme amount of rain causes heavy flooding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lso destroys homes, businesses, and road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34240" y="914400"/>
            <a:ext cx="798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ink about what you and your family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ight do if you lived on the coast an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you knew a hurricane was approachi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23320" y="3321000"/>
            <a:ext cx="754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ould you board up and leave, or t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o stay out the storm in your hom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51200" y="4768920"/>
            <a:ext cx="7041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w would you know when the ey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f the storm was approaching, 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ight over you?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6324480" cy="4724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905120" y="152280"/>
            <a:ext cx="291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urricane Isab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71760" y="5607000"/>
            <a:ext cx="701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ow!  Look at the clockwise swirl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0773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162920" cy="54864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5886360"/>
            <a:ext cx="85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ook at this hurricane as this ship approach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001000" cy="51055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07000" y="5353200"/>
            <a:ext cx="786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s picture shows just how much damage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urricane can do to the things in its pat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7696440" cy="4419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45080" y="5029200"/>
            <a:ext cx="7907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ny people board up the glass window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nd doors of their homes and busine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en they know a hurricane is approach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8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5429520" cy="54295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463440" y="295200"/>
            <a:ext cx="2536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ook at the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mazing vie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f the eye wall!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0320" y="5791320"/>
            <a:ext cx="87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ere do you think this picture was taken fro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6934320" cy="48765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80880" y="5257800"/>
            <a:ext cx="723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ook at how strong the winds are 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y force their way onto the shore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00:46:08Z</dcterms:created>
  <dc:creator>Compaq Customer </dc:creator>
  <dc:description/>
  <dc:language>en-US</dc:language>
  <cp:lastModifiedBy>Rutherford County Schools</cp:lastModifiedBy>
  <dcterms:modified xsi:type="dcterms:W3CDTF">2007-04-21T15:48:43Z</dcterms:modified>
  <cp:revision>4</cp:revision>
  <dc:subject/>
  <dc:title>PowerPoint Presentation</dc:title>
</cp:coreProperties>
</file>